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007-2AC5-4E67-8691-28518293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D92-79B4-4BD1-9E49-B5A8750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8A9-728C-4966-996F-5D021448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E89-2F3A-4230-A1AB-B1042E05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39B0-29A6-4330-880A-F1F72169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7F58-8295-42E5-8FB5-D8DECF1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831-3E37-4D17-867C-E95BB641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CBC0-C894-469B-B309-EA1709EC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8A91-23BC-4CF0-A124-AA7DC2E1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9BCC-63D8-4E86-9FD1-E8200B61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5E64-F896-4432-9AF6-A71283C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53C-B59D-4520-96F2-44BD8019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D28B-D215-4EA8-8B2A-AD67D44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6021-F279-4E5B-ACA4-E520549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56DF-1389-4153-9D76-BD8B047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9A39-85AF-43D6-9797-4F86C105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AC3D-AD21-4290-8AF5-BDD55DB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ED2B-4C7E-432E-A3FD-4EC7EF0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9F07-E35D-47D0-93DF-8083176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5DD8-8515-417A-BCCF-8DF7809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A71F-072E-474A-9F6D-6060F414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FD8D-F6CC-49BA-9A67-8CA66638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1B2-BF2D-4086-9A78-C6B78513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C15B-F3F3-49CF-A2D0-14B87AE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5A65-E4CE-42C4-81AE-FB1774A6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7711-FFD6-4065-A6AC-9EB4F96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9CAE-34A2-4896-A176-57DB329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72D5-CC2E-4BB2-B71D-580C2FE0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F3C1-228A-4585-AEE6-A89EF60C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9FB4-8DCD-4188-A16F-514D2DEC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8DE0-CC51-4A28-9438-AC5A47A4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1B3E-510A-4A61-9418-9EE07E5D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18E4-3340-459C-B4F7-B2AB9F56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26F-85B5-4B58-8A19-06347B0F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4D1A-DD5E-4F4E-8721-E9B2C3A1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E9AE-A420-4B9D-9250-90CFB36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81F6-58F8-41DA-9B2C-9B24B00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8CE7-03D1-4039-A702-96BAE58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3549-DDD9-458C-8394-4D13963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DDB2-C4EF-444E-9B30-5F2FA8C3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D472-E5D2-4177-8579-4455844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F0AF-5CAC-4400-AB8F-719C6C5B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D37E-11AD-44DA-94D0-5995DF2D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C016-A0D4-45ED-93DB-9FC3A119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BDA-2C47-4AE1-8162-4ABDD4AF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2E6A-2DCC-4765-8BC2-08443E8D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B1FF-AB8B-4079-A0A7-29F8113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1F79-8A36-44C1-A06A-95052426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BA32-9775-44EB-8678-E4BD189E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7249-548A-4787-B2FA-CF3C96F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B1EF-D1D2-48F9-8183-9161287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C7B76-32AC-42C4-BE01-C7B6C79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2382-AC28-4FF6-B32E-E7E7E33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A575-52DF-45DE-9DD0-4469831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826B-9048-4E0A-9205-32F6F7D0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C0C-ED9F-4DC0-86D9-BFF5070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2ADE-3880-48F6-B635-C5D6563E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B540-2B99-432A-B421-C76D0F88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E68A-1F1F-4E8F-8A3D-FD41321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8942-6BF3-4339-99ED-C1323B1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92E4-E0F5-4FF8-8C20-B966055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1D94E-02B0-4B89-A3AF-23349B7B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0FB4-1F6A-42CC-9B14-7D6A94B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94FC-8DD3-4334-84EA-C6945EC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F679-00F5-4EC6-BC09-7D3C7B2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25D57-77B4-40B5-80BF-3231F5A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B1A-581F-4CA7-8D62-D31745B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47C5-E536-46E7-B6A4-9D8F0D6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8EB6-E44B-4A82-81A7-B6FEC833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2923-A2BB-4A00-8DA5-5B5E4563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224B-2F58-4523-9452-9F615A3E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085F-CC25-4900-B333-E3A4DEFE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0A3C3-33E4-4107-95E9-9BE134CE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E709-AB61-481B-8838-1706694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F897-A963-47CB-8809-EAA73BCE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D4ED1-A524-4864-BA3B-09B14975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B1C0-3449-4A41-A50A-2D6F1F9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EF2-4138-456F-9BC7-8FF9097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8D64-872B-43B7-8514-5AF25E6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CA0B-A851-49EF-8E17-C813A6E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008B-7F1B-4FB4-9A70-421439CD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900DA-29A5-42BB-BE4B-FC0E4BED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7FE9-8C26-4FBD-B6B3-4B0B80B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7BF-110E-46B0-882A-2C54DDD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1CA4-5F8F-41E3-AD3E-1345FB82D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B319-C096-44C3-9B15-C33769C537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矩形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4" name="图片 3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5196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5196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C9BF-C2A4-4F94-9E5D-641573FF016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F2C-5B39-4176-B269-E1379A1987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7a77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29DE-2E65-4988-8226-F7977027DA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504080" indent="-214560">
              <a:spcBef>
                <a:spcPts val="799"/>
              </a:spcBef>
              <a:buClr>
                <a:srgbClr val="0033cc"/>
              </a:buClr>
              <a:buSzPct val="90000"/>
              <a:buFont typeface="Wingdings" charset="2"/>
              <a:buChar char="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4AAA-B15A-4F16-9190-228A98BD31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1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5196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5196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D6B9-2F04-4FBF-B703-E1781AE4AC2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en-US" sz="8000" spc="-1" strike="noStrike">
                <a:solidFill>
                  <a:srgbClr val="00cc00"/>
                </a:solidFill>
                <a:latin typeface="Arial"/>
              </a:rPr>
              <a:t>Lesson20</a:t>
            </a:r>
            <a:r>
              <a:rPr b="1" i="1" lang="en-US" sz="8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8000" spc="-1" strike="noStrike">
                <a:solidFill>
                  <a:srgbClr val="ff9900"/>
                </a:solidFill>
                <a:latin typeface="Arial"/>
              </a:rPr>
              <a:t>Hamburgers and Hot Dogs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1" descr="133Z3IcR0-523L5V8.jpg"/>
          <p:cNvPicPr/>
          <p:nvPr/>
        </p:nvPicPr>
        <p:blipFill>
          <a:blip r:embed="rId1"/>
          <a:srcRect l="0" t="0" r="47253" b="3374"/>
          <a:stretch/>
        </p:blipFill>
        <p:spPr>
          <a:xfrm>
            <a:off x="5029200" y="3505320"/>
            <a:ext cx="2467080" cy="3000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4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What would you like?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I`d like a hamburger and some juice,please.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9" name="图片 4" descr="3092404_125803059927_2.jpg"/>
          <p:cNvPicPr/>
          <p:nvPr/>
        </p:nvPicPr>
        <p:blipFill>
          <a:blip r:embed="rId2"/>
          <a:stretch/>
        </p:blipFill>
        <p:spPr>
          <a:xfrm>
            <a:off x="3352680" y="4572000"/>
            <a:ext cx="19702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1" descr="7981635_134400764000_2.jpg"/>
          <p:cNvPicPr/>
          <p:nvPr/>
        </p:nvPicPr>
        <p:blipFill>
          <a:blip r:embed="rId1"/>
          <a:srcRect l="-3667" t="3923" r="9508" b="7847"/>
          <a:stretch/>
        </p:blipFill>
        <p:spPr>
          <a:xfrm>
            <a:off x="533520" y="1981080"/>
            <a:ext cx="2682720" cy="16765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990720" y="304920"/>
            <a:ext cx="10668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What would you like?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   I’d like</a:t>
            </a:r>
            <a:r>
              <a:rPr b="0" i="1" lang="zh-CN" sz="4000" spc="-1" strike="noStrike">
                <a:solidFill>
                  <a:srgbClr val="0000cc"/>
                </a:solidFill>
                <a:latin typeface="Arial"/>
              </a:rPr>
              <a:t>＿＿ 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,please.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32" name="图片 3" descr="9301004_112314497169_2.jpg"/>
          <p:cNvPicPr/>
          <p:nvPr/>
        </p:nvPicPr>
        <p:blipFill>
          <a:blip r:embed="rId2"/>
          <a:srcRect l="2002" t="0" r="0" b="2444"/>
          <a:stretch/>
        </p:blipFill>
        <p:spPr>
          <a:xfrm>
            <a:off x="6195960" y="4191120"/>
            <a:ext cx="2432160" cy="198108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4" descr="thumb (8).jpg"/>
          <p:cNvPicPr/>
          <p:nvPr/>
        </p:nvPicPr>
        <p:blipFill>
          <a:blip r:embed="rId3"/>
          <a:stretch/>
        </p:blipFill>
        <p:spPr>
          <a:xfrm>
            <a:off x="3962520" y="2133720"/>
            <a:ext cx="3133440" cy="151452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5" descr="5695349_173305067901_2.jpg"/>
          <p:cNvPicPr/>
          <p:nvPr/>
        </p:nvPicPr>
        <p:blipFill>
          <a:blip r:embed="rId4"/>
          <a:srcRect l="1696" t="0" r="0" b="2784"/>
          <a:stretch/>
        </p:blipFill>
        <p:spPr>
          <a:xfrm>
            <a:off x="1981080" y="3809880"/>
            <a:ext cx="327672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mph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1" descr="7981635_134400764000_2.jpg"/>
          <p:cNvPicPr/>
          <p:nvPr/>
        </p:nvPicPr>
        <p:blipFill>
          <a:blip r:embed="rId1"/>
          <a:stretch/>
        </p:blipFill>
        <p:spPr>
          <a:xfrm>
            <a:off x="5943600" y="2286000"/>
            <a:ext cx="2170080" cy="144792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3" descr="t01a34ede401b01ea1b.png"/>
          <p:cNvPicPr/>
          <p:nvPr/>
        </p:nvPicPr>
        <p:blipFill>
          <a:blip r:embed="rId2"/>
          <a:srcRect l="0" t="0" r="55044" b="2715"/>
          <a:stretch/>
        </p:blipFill>
        <p:spPr>
          <a:xfrm>
            <a:off x="7518240" y="152280"/>
            <a:ext cx="1625760" cy="2590920"/>
          </a:xfrm>
          <a:prstGeom prst="rect">
            <a:avLst/>
          </a:prstGeom>
          <a:ln w="0">
            <a:noFill/>
          </a:ln>
        </p:spPr>
      </p:pic>
      <p:sp>
        <p:nvSpPr>
          <p:cNvPr id="337" name="矩形标注 4"/>
          <p:cNvSpPr/>
          <p:nvPr/>
        </p:nvSpPr>
        <p:spPr>
          <a:xfrm rot="16200000">
            <a:off x="4267080" y="-381240"/>
            <a:ext cx="1600200" cy="3733920"/>
          </a:xfrm>
          <a:prstGeom prst="wedgeRectCallout">
            <a:avLst>
              <a:gd name="adj1" fmla="val 50421"/>
              <a:gd name="adj2" fmla="val 7187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3733920" y="914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Look ,Danny.Donuts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9" name="图片 6" descr="clip_image028_0001.jpg"/>
          <p:cNvPicPr/>
          <p:nvPr/>
        </p:nvPicPr>
        <p:blipFill>
          <a:blip r:embed="rId3"/>
          <a:stretch/>
        </p:blipFill>
        <p:spPr>
          <a:xfrm>
            <a:off x="457200" y="4114800"/>
            <a:ext cx="1362240" cy="1876320"/>
          </a:xfrm>
          <a:prstGeom prst="rect">
            <a:avLst/>
          </a:prstGeom>
          <a:ln w="0">
            <a:noFill/>
          </a:ln>
        </p:spPr>
      </p:pic>
      <p:sp>
        <p:nvSpPr>
          <p:cNvPr id="340" name="椭圆形标注 7"/>
          <p:cNvSpPr/>
          <p:nvPr/>
        </p:nvSpPr>
        <p:spPr>
          <a:xfrm>
            <a:off x="2362320" y="3505320"/>
            <a:ext cx="4343400" cy="1752480"/>
          </a:xfrm>
          <a:prstGeom prst="wedgeEllipseCallout">
            <a:avLst>
              <a:gd name="adj1" fmla="val -66055"/>
              <a:gd name="adj2" fmla="val 1337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文本框 8"/>
          <p:cNvSpPr/>
          <p:nvPr/>
        </p:nvSpPr>
        <p:spPr>
          <a:xfrm>
            <a:off x="320040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My favourite!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文本框 9"/>
          <p:cNvSpPr/>
          <p:nvPr/>
        </p:nvSpPr>
        <p:spPr>
          <a:xfrm>
            <a:off x="2971800" y="4267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y I have one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文本框 10"/>
          <p:cNvSpPr/>
          <p:nvPr/>
        </p:nvSpPr>
        <p:spPr>
          <a:xfrm>
            <a:off x="380988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e !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文本框 11"/>
          <p:cNvSpPr/>
          <p:nvPr/>
        </p:nvSpPr>
        <p:spPr>
          <a:xfrm>
            <a:off x="39625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"/>
              </a:rPr>
              <a:t>Thanks !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文本框 12"/>
          <p:cNvSpPr/>
          <p:nvPr/>
        </p:nvSpPr>
        <p:spPr>
          <a:xfrm>
            <a:off x="3809880" y="1905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72"/>
                </a:solidFill>
                <a:latin typeface="Arial"/>
              </a:rPr>
              <a:t>You′re welcome!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May I have a hot do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Sure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Thanks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You `re wel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14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3" descr="1537432_185456007_2[1]"/>
          <p:cNvPicPr/>
          <p:nvPr/>
        </p:nvPicPr>
        <p:blipFill>
          <a:blip r:embed="rId1"/>
          <a:stretch/>
        </p:blipFill>
        <p:spPr>
          <a:xfrm>
            <a:off x="6865920" y="3733920"/>
            <a:ext cx="2278080" cy="27432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2362698_201749088667_2[1]"/>
          <p:cNvPicPr/>
          <p:nvPr/>
        </p:nvPicPr>
        <p:blipFill>
          <a:blip r:embed="rId2"/>
          <a:stretch/>
        </p:blipFill>
        <p:spPr>
          <a:xfrm>
            <a:off x="304920" y="2133720"/>
            <a:ext cx="3200400" cy="19080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5" descr="2457331_145324858150_2[1]"/>
          <p:cNvPicPr/>
          <p:nvPr/>
        </p:nvPicPr>
        <p:blipFill>
          <a:blip r:embed="rId3"/>
          <a:stretch/>
        </p:blipFill>
        <p:spPr>
          <a:xfrm>
            <a:off x="0" y="418932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6" descr="5736135_103708488191_2[1]"/>
          <p:cNvPicPr/>
          <p:nvPr/>
        </p:nvPicPr>
        <p:blipFill>
          <a:blip r:embed="rId4"/>
          <a:stretch/>
        </p:blipFill>
        <p:spPr>
          <a:xfrm>
            <a:off x="4191120" y="4267080"/>
            <a:ext cx="2514600" cy="24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 do you like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？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 like</a:t>
            </a: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＿</a:t>
            </a:r>
            <a:r>
              <a:rPr b="0" lang="en-US" sz="5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3" name="图片 2" descr="苹果.jpg"/>
          <p:cNvPicPr/>
          <p:nvPr/>
        </p:nvPicPr>
        <p:blipFill>
          <a:blip r:embed="rId1"/>
          <a:srcRect l="7943" t="11531" r="43193" b="11676"/>
          <a:stretch/>
        </p:blipFill>
        <p:spPr>
          <a:xfrm>
            <a:off x="228600" y="1676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3" descr="0034.jpg"/>
          <p:cNvPicPr/>
          <p:nvPr/>
        </p:nvPicPr>
        <p:blipFill>
          <a:blip r:embed="rId2"/>
          <a:stretch/>
        </p:blipFill>
        <p:spPr>
          <a:xfrm>
            <a:off x="1066680" y="44956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4" descr="t01988eb75a170830b4.jpg"/>
          <p:cNvPicPr/>
          <p:nvPr/>
        </p:nvPicPr>
        <p:blipFill>
          <a:blip r:embed="rId3"/>
          <a:stretch/>
        </p:blipFill>
        <p:spPr>
          <a:xfrm>
            <a:off x="4038480" y="4191120"/>
            <a:ext cx="1849680" cy="163188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5" descr="29c49f11ce69d6d851cdbbe6cc5742aevSXc6w_468x468.jpeg"/>
          <p:cNvPicPr/>
          <p:nvPr/>
        </p:nvPicPr>
        <p:blipFill>
          <a:blip r:embed="rId4"/>
          <a:srcRect l="0" t="0" r="2801" b="12723"/>
          <a:stretch/>
        </p:blipFill>
        <p:spPr>
          <a:xfrm>
            <a:off x="2362320" y="281952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6" descr="sy_201207101144583330.jpg"/>
          <p:cNvPicPr/>
          <p:nvPr/>
        </p:nvPicPr>
        <p:blipFill>
          <a:blip r:embed="rId5"/>
          <a:srcRect l="10824" t="8882" r="5682" b="14441"/>
          <a:stretch/>
        </p:blipFill>
        <p:spPr>
          <a:xfrm>
            <a:off x="6172200" y="25909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83808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What do you like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？</a:t>
            </a:r>
            <a:br>
              <a:rPr sz="44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I like ——.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9" name="图片 2" descr="8.jpg"/>
          <p:cNvPicPr/>
          <p:nvPr/>
        </p:nvPicPr>
        <p:blipFill>
          <a:blip r:embed="rId1"/>
          <a:stretch/>
        </p:blipFill>
        <p:spPr>
          <a:xfrm>
            <a:off x="228600" y="1981080"/>
            <a:ext cx="1676520" cy="1201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3" descr="thumb (5).jpg"/>
          <p:cNvPicPr/>
          <p:nvPr/>
        </p:nvPicPr>
        <p:blipFill>
          <a:blip r:embed="rId2"/>
          <a:srcRect l="16634" t="5564" r="0" b="0"/>
          <a:stretch/>
        </p:blipFill>
        <p:spPr>
          <a:xfrm>
            <a:off x="152280" y="4876920"/>
            <a:ext cx="1527120" cy="12952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4" descr="11291_2011091002353918cpB.jpg"/>
          <p:cNvPicPr/>
          <p:nvPr/>
        </p:nvPicPr>
        <p:blipFill>
          <a:blip r:embed="rId3"/>
          <a:stretch/>
        </p:blipFill>
        <p:spPr>
          <a:xfrm>
            <a:off x="2362320" y="2057400"/>
            <a:ext cx="1469880" cy="14241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5" descr="2337508_104933468302_2.jpg"/>
          <p:cNvPicPr/>
          <p:nvPr/>
        </p:nvPicPr>
        <p:blipFill>
          <a:blip r:embed="rId4"/>
          <a:srcRect l="5598" t="0" r="0" b="8849"/>
          <a:stretch/>
        </p:blipFill>
        <p:spPr>
          <a:xfrm>
            <a:off x="457200" y="3429000"/>
            <a:ext cx="1287360" cy="121932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6" descr="2918381_094637098619_2.jpg"/>
          <p:cNvPicPr/>
          <p:nvPr/>
        </p:nvPicPr>
        <p:blipFill>
          <a:blip r:embed="rId5"/>
          <a:stretch/>
        </p:blipFill>
        <p:spPr>
          <a:xfrm>
            <a:off x="3657600" y="4724280"/>
            <a:ext cx="1681200" cy="110340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7" descr="2008611134010983_2.jpg"/>
          <p:cNvPicPr/>
          <p:nvPr/>
        </p:nvPicPr>
        <p:blipFill>
          <a:blip r:embed="rId6"/>
          <a:stretch/>
        </p:blipFill>
        <p:spPr>
          <a:xfrm>
            <a:off x="2057400" y="3657600"/>
            <a:ext cx="1454040" cy="10904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8" descr="2010112104129787.jpg"/>
          <p:cNvPicPr/>
          <p:nvPr/>
        </p:nvPicPr>
        <p:blipFill>
          <a:blip r:embed="rId7"/>
          <a:stretch/>
        </p:blipFill>
        <p:spPr>
          <a:xfrm>
            <a:off x="6858000" y="327672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9" descr="t01fcf2b50066fdd085.jpg"/>
          <p:cNvPicPr/>
          <p:nvPr/>
        </p:nvPicPr>
        <p:blipFill>
          <a:blip r:embed="rId8"/>
          <a:stretch/>
        </p:blipFill>
        <p:spPr>
          <a:xfrm>
            <a:off x="4267080" y="1981080"/>
            <a:ext cx="1791000" cy="118116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0" descr="thumb (1).jpg"/>
          <p:cNvPicPr/>
          <p:nvPr/>
        </p:nvPicPr>
        <p:blipFill>
          <a:blip r:embed="rId9"/>
          <a:stretch/>
        </p:blipFill>
        <p:spPr>
          <a:xfrm>
            <a:off x="6705720" y="1981080"/>
            <a:ext cx="164772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1" descr="133Z3IcR0-523L5V8.jpg"/>
          <p:cNvPicPr/>
          <p:nvPr/>
        </p:nvPicPr>
        <p:blipFill>
          <a:blip r:embed="rId10"/>
          <a:srcRect l="53090" t="15641" r="3670" b="3374"/>
          <a:stretch/>
        </p:blipFill>
        <p:spPr>
          <a:xfrm>
            <a:off x="2133720" y="4800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2" descr="20130305195728822882.jpg"/>
          <p:cNvPicPr/>
          <p:nvPr/>
        </p:nvPicPr>
        <p:blipFill>
          <a:blip r:embed="rId11"/>
          <a:stretch/>
        </p:blipFill>
        <p:spPr>
          <a:xfrm>
            <a:off x="7010280" y="5029200"/>
            <a:ext cx="1508400" cy="113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3" descr="493abd397d114adf893ff2c6cd6d6aa30003.jpg"/>
          <p:cNvPicPr/>
          <p:nvPr/>
        </p:nvPicPr>
        <p:blipFill>
          <a:blip r:embed="rId12"/>
          <a:srcRect l="10173" t="19104" r="53857" b="12606"/>
          <a:stretch/>
        </p:blipFill>
        <p:spPr>
          <a:xfrm>
            <a:off x="5791320" y="358128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4" descr="thumb (4).jpg"/>
          <p:cNvPicPr/>
          <p:nvPr/>
        </p:nvPicPr>
        <p:blipFill>
          <a:blip r:embed="rId13"/>
          <a:srcRect l="2808" t="6409" r="4320" b="8025"/>
          <a:stretch/>
        </p:blipFill>
        <p:spPr>
          <a:xfrm>
            <a:off x="3962520" y="3429000"/>
            <a:ext cx="1546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et ’s sing!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28195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7a77"/>
                </a:solidFill>
                <a:latin typeface="Arial"/>
              </a:rPr>
              <a:t>Delicious  Food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3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500" autoRev="1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Arial"/>
              </a:rPr>
              <a:t>ham</a:t>
            </a:r>
            <a:r>
              <a:rPr b="1" lang="en-US" sz="6600" spc="-1" strike="noStrike">
                <a:solidFill>
                  <a:srgbClr val="dc5900"/>
                </a:solidFill>
                <a:latin typeface="Arial"/>
              </a:rPr>
              <a:t>bur</a:t>
            </a:r>
            <a:r>
              <a:rPr b="1" lang="en-US" sz="6600" spc="-1" strike="noStrike">
                <a:solidFill>
                  <a:srgbClr val="00cc00"/>
                </a:solidFill>
                <a:latin typeface="Arial"/>
              </a:rPr>
              <a:t>ger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图片 3" descr="5736135_103708488191_2[1]"/>
          <p:cNvPicPr/>
          <p:nvPr/>
        </p:nvPicPr>
        <p:blipFill>
          <a:blip r:embed="rId1"/>
          <a:srcRect l="861" t="0" r="0" b="2779"/>
          <a:stretch/>
        </p:blipFill>
        <p:spPr>
          <a:xfrm>
            <a:off x="380880" y="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548640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           </a:t>
            </a:r>
            <a:r>
              <a:rPr b="1" i="1" lang="en-US" sz="6000" spc="-1" strike="noStrike">
                <a:solidFill>
                  <a:srgbClr val="ff00ff"/>
                </a:solidFill>
                <a:latin typeface="Arial"/>
              </a:rPr>
              <a:t>hot dog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9" name="图片 3" descr="2362698_201749088667_2[1]"/>
          <p:cNvPicPr/>
          <p:nvPr/>
        </p:nvPicPr>
        <p:blipFill>
          <a:blip r:embed="rId1"/>
          <a:srcRect l="0" t="0" r="0" b="5798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5486400"/>
            <a:ext cx="85406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1" i="1" lang="en-US" sz="6600" spc="-1" strike="noStrike">
                <a:solidFill>
                  <a:srgbClr val="ff00ff"/>
                </a:solidFill>
                <a:latin typeface="Arial"/>
              </a:rPr>
              <a:t>do</a:t>
            </a:r>
            <a:r>
              <a:rPr b="1" i="1" lang="en-US" sz="6600" spc="-1" strike="noStrike">
                <a:solidFill>
                  <a:srgbClr val="003399"/>
                </a:solidFill>
                <a:latin typeface="Arial"/>
              </a:rPr>
              <a:t>nu</a:t>
            </a:r>
            <a:r>
              <a:rPr b="1" i="1" lang="en-US" sz="66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2" name="图片 3" descr="2457331_145324858150_2[1]"/>
          <p:cNvPicPr/>
          <p:nvPr/>
        </p:nvPicPr>
        <p:blipFill>
          <a:blip r:embed="rId1"/>
          <a:srcRect l="1666" t="0" r="0" b="4111"/>
          <a:stretch/>
        </p:blipFill>
        <p:spPr>
          <a:xfrm>
            <a:off x="152280" y="0"/>
            <a:ext cx="89917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406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</a:t>
            </a: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ice cream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4" name="图片 3" descr="1537432_185456007_2[1]"/>
          <p:cNvPicPr/>
          <p:nvPr/>
        </p:nvPicPr>
        <p:blipFill>
          <a:blip r:embed="rId1"/>
          <a:srcRect l="0" t="3530" r="0" b="0"/>
          <a:stretch/>
        </p:blipFill>
        <p:spPr>
          <a:xfrm>
            <a:off x="0" y="228600"/>
            <a:ext cx="48006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Delicious  Food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6" name="图片 3" descr="6478675_091316467000_2[1]"/>
          <p:cNvPicPr/>
          <p:nvPr/>
        </p:nvPicPr>
        <p:blipFill>
          <a:blip r:embed="rId1"/>
          <a:srcRect l="1628" t="0" r="0" b="2223"/>
          <a:stretch/>
        </p:blipFill>
        <p:spPr>
          <a:xfrm>
            <a:off x="1066680" y="19051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1:31:59Z</dcterms:created>
  <dc:creator>Administrator</dc:creator>
  <dc:description/>
  <dc:language>en-US</dc:language>
  <cp:lastModifiedBy>acer1</cp:lastModifiedBy>
  <dcterms:modified xsi:type="dcterms:W3CDTF">2015-10-16T03:23:45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  <property fmtid="{D5CDD505-2E9C-101B-9397-08002B2CF9AE}" pid="3" name="Version">
    <vt:r8>1</vt:r8>
  </property>
</Properties>
</file>